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2.wmf" ContentType="image/x-wmf"/>
  <Override PartName="/ppt/media/image5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3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53A2-F890-4C41-9A56-C7140BD8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39ED-1432-4954-97EF-8B65BEAB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A427-2EBE-4117-ADB7-24A013F4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ED64-7493-4FAF-89A3-467A0ED2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5920-8F72-45E7-B4B7-ADE29A62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22D-1B60-4433-B67B-85888FE8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3EC0-8C96-4C92-BCE2-B99B17F4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332-80A8-42D7-BC47-A8D39F27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01B-3EF2-4506-B76C-75280F30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AB72-20F0-4E54-AFBA-050120F0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27BA-0CCB-4AB2-99FB-229BA4E8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A9C7-34C8-4E6D-B7FE-BB0D85C9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6CDB-252B-426D-B350-419D58D642A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Basic Airplane Instruments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Jason Maloney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MITFC Ground Schoo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all 2009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Gyroscopes &amp; Precession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igidity in Spa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ecess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Force felt 90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°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 later in direction of rotation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ir flow from vacuum system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76" name="Text Placeholder 29" descr=""/>
          <p:cNvPicPr/>
          <p:nvPr/>
        </p:nvPicPr>
        <p:blipFill>
          <a:blip r:embed="rId2"/>
          <a:stretch/>
        </p:blipFill>
        <p:spPr>
          <a:xfrm>
            <a:off x="1276200" y="3835440"/>
            <a:ext cx="2914920" cy="2870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384192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Vacuum System and Instruments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48104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Monitor vacuum pressure during flight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ome airplanes have back-up vacuum sour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0" name="Text Placeholder 29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6934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Turn &amp; Slip / Turn Coordinator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80680"/>
            <a:ext cx="678168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inciple of Precess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urn coordinator shows both rate of roll and rate of turn (canted gyro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urn-and-slip only shows rate of tur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3" name="Text Placeholder 29" descr=""/>
          <p:cNvPicPr/>
          <p:nvPr/>
        </p:nvPicPr>
        <p:blipFill>
          <a:blip r:embed="rId2"/>
          <a:stretch/>
        </p:blipFill>
        <p:spPr>
          <a:xfrm>
            <a:off x="914400" y="3406680"/>
            <a:ext cx="67816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Turn Coordination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tep on the ball”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Coordinated turns will help prevent spin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tandard rate turn 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3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°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 per secon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2 minute turn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6" name="Text Placeholder 29" descr=""/>
          <p:cNvPicPr/>
          <p:nvPr/>
        </p:nvPicPr>
        <p:blipFill>
          <a:blip r:embed="rId2"/>
          <a:stretch/>
        </p:blipFill>
        <p:spPr>
          <a:xfrm>
            <a:off x="4734000" y="1600200"/>
            <a:ext cx="3867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ttitude Indicator (ADI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240" y="148104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inciple of Rigidity in Spa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Instantaneous indication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Your aircraft rotates around the gyro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9" name="Text Placeholder 29" descr=""/>
          <p:cNvPicPr/>
          <p:nvPr/>
        </p:nvPicPr>
        <p:blipFill>
          <a:blip r:embed="rId2"/>
          <a:stretch/>
        </p:blipFill>
        <p:spPr>
          <a:xfrm>
            <a:off x="4648320" y="1606680"/>
            <a:ext cx="40384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Reading an Attitude Indicator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Compare miniature airplane to artificial horiz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djust airplane to match horizon during straight-and-level flight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92" name="Text Placeholder 29" descr=""/>
          <p:cNvPicPr/>
          <p:nvPr/>
        </p:nvPicPr>
        <p:blipFill>
          <a:blip r:embed="rId2"/>
          <a:stretch/>
        </p:blipFill>
        <p:spPr>
          <a:xfrm>
            <a:off x="5092560" y="1143000"/>
            <a:ext cx="3216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Directional Gyro (DG)</a:t>
            </a:r>
            <a:br>
              <a:rPr sz="3700"/>
            </a:b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a.k.a. Heading Indicator 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inciple of Rigidity in Spa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Must set the DG to a known heading before us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eadjust periodically due to precess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95" name="Text Placeholder 29" descr=""/>
          <p:cNvPicPr/>
          <p:nvPr/>
        </p:nvPicPr>
        <p:blipFill>
          <a:blip r:embed="rId2"/>
          <a:stretch/>
        </p:blipFill>
        <p:spPr>
          <a:xfrm>
            <a:off x="4873680" y="1481040"/>
            <a:ext cx="358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Magnetic Compass &amp; Errors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1920" y="1066680"/>
            <a:ext cx="4343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Variat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Magnetic vs. True North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Reference Isogonic lines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Dip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: Northern Hemisphere Turning Error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ndershoot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rth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vershoot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uth (</a:t>
            </a:r>
            <a:r>
              <a:rPr b="0" lang="en-US" sz="1800" spc="-1" strike="noStrike">
                <a:solidFill>
                  <a:srgbClr val="ff8119"/>
                </a:solidFill>
                <a:latin typeface="Lucida Sans Unicode"/>
              </a:rPr>
              <a:t>UNO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ccurate indication at 90 &amp; 270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Dip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: Acceleration Error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n East or West heading: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ccelerate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rth,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ecelerate </a:t>
            </a:r>
            <a:r>
              <a:rPr b="1" lang="en-US" sz="1800" spc="-1" strike="noStrike">
                <a:solidFill>
                  <a:srgbClr val="ff8119"/>
                </a:solidFill>
                <a:latin typeface="Lucida Sans Unicode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outh (</a:t>
            </a:r>
            <a:r>
              <a:rPr b="0" lang="en-US" sz="1800" spc="-1" strike="noStrike">
                <a:solidFill>
                  <a:srgbClr val="ff8119"/>
                </a:solidFill>
                <a:latin typeface="Lucida Sans Unicode"/>
              </a:rPr>
              <a:t>ANDS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ffff"/>
                </a:solidFill>
                <a:uFillTx/>
                <a:latin typeface="Lucida Sans Unicode"/>
              </a:rPr>
              <a:t>Deviat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Local magnetic fields (i.e. from radio)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98" name="Text Placeholder 29" descr=""/>
          <p:cNvPicPr/>
          <p:nvPr/>
        </p:nvPicPr>
        <p:blipFill>
          <a:blip r:embed="rId2"/>
          <a:stretch/>
        </p:blipFill>
        <p:spPr>
          <a:xfrm>
            <a:off x="4724280" y="1438200"/>
            <a:ext cx="3886200" cy="3425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346640" y="4927680"/>
            <a:ext cx="46450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Pitot-Static System &amp; Instruments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48104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irspeed Indicator (Pitot and Static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Vertical Speed Indicator (Static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ltimeter (Static)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itot Heat to prevent/melt i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657600" y="2486160"/>
            <a:ext cx="5334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ltimeter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320" y="152388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Wafers sealed at Standard Pressure of 29.92” Hg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Adjust altimeter setting in Kollsman Window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1”Hg = 1,000 ft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Set to field elevation if no setting availabl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Types of Altitude: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Indicated Altitud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True Altitude (MSL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Pressure Altitud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Absolute Altitude (AGL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6280" indent="-28908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Density Altitud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4" name="Text Placeholder 29" descr=""/>
          <p:cNvPicPr/>
          <p:nvPr/>
        </p:nvPicPr>
        <p:blipFill>
          <a:blip r:embed="rId2"/>
          <a:stretch/>
        </p:blipFill>
        <p:spPr>
          <a:xfrm>
            <a:off x="4695840" y="990720"/>
            <a:ext cx="3940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Nonstandard Temp. &amp; Pressure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High to Low or Hot to Cold, look out below!”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57" name="Text Placeholder 29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6934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Vertical Speed Indicator (VSI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76120"/>
            <a:ext cx="4038480" cy="49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ate of climb or descent in feet per minut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tatic pressure differential instrument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Wafers at ambient pressur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Diaphragm exposed to ambient pressure, but with calibrated leak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VSI lag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rend and Rate informatio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0" name="Text Placeholder 29" descr=""/>
          <p:cNvPicPr/>
          <p:nvPr/>
        </p:nvPicPr>
        <p:blipFill>
          <a:blip r:embed="rId2"/>
          <a:stretch/>
        </p:blipFill>
        <p:spPr>
          <a:xfrm>
            <a:off x="4648320" y="1604880"/>
            <a:ext cx="40384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Airspeed Indicator (ASI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240" y="1252440"/>
            <a:ext cx="4876920" cy="49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Dynamic and static pressure differential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ypes of Airspeed: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Indicated (IA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Calibrated (CA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True (TA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Groundspeed (GS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289080" indent="-28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ome V-speeds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so -stall w/ flaps (“dirty”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s1-stall w/o flaps (“clean”)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fe -max flap exten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no -max structural cruise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801720" indent="-39852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Vne -never excee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3" name="Text Placeholder 29" descr=""/>
          <p:cNvPicPr/>
          <p:nvPr/>
        </p:nvPicPr>
        <p:blipFill>
          <a:blip r:embed="rId2"/>
          <a:srcRect l="0" t="0" r="0" b="7621"/>
          <a:stretch/>
        </p:blipFill>
        <p:spPr>
          <a:xfrm>
            <a:off x="5029200" y="1143000"/>
            <a:ext cx="3276720" cy="2771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181480" y="3962520"/>
            <a:ext cx="289260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Blocked Pitot Tube (inlet only)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am air exits via drain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ressure equalizes to static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decreases to zero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380664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Blocked Pitot System </a:t>
            </a:r>
            <a:br>
              <a:rPr sz="3700"/>
            </a:br>
            <a:r>
              <a:rPr b="1" lang="en-US" sz="3700" spc="-1" strike="noStrike">
                <a:solidFill>
                  <a:srgbClr val="def5fa"/>
                </a:solidFill>
                <a:latin typeface="Lucida Sans Unicode"/>
              </a:rPr>
              <a:t>(inlet and drain)</a:t>
            </a:r>
            <a:endParaRPr b="1" lang="en-US" sz="37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1481040"/>
            <a:ext cx="464832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Frozen at constant altitud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acts as an altimeter: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A climb will show an increased airspee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Descent will show decreased airspeed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Potentially very dangerous!!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Why?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What </a:t>
            </a:r>
            <a:r>
              <a:rPr b="0" lang="en-US" sz="2100" spc="-1" strike="noStrike" u="sng">
                <a:solidFill>
                  <a:srgbClr val="ffffff"/>
                </a:solidFill>
                <a:uFillTx/>
                <a:latin typeface="Lucida Sans Unicode"/>
              </a:rPr>
              <a:t>should</a:t>
            </a: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 happen as you climb? Descend?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Can lead to stall and/or in-flight breakup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70" name="Text Placeholder 29" descr=""/>
          <p:cNvPicPr/>
          <p:nvPr/>
        </p:nvPicPr>
        <p:blipFill>
          <a:blip r:embed="rId2"/>
          <a:stretch/>
        </p:blipFill>
        <p:spPr>
          <a:xfrm>
            <a:off x="5295960" y="762120"/>
            <a:ext cx="3695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Blocked Static Por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SI continues to operate, but incorrectly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Behaves somewhat as an altimeter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VSI reads zero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ltimeter frozen at altitude where blockage occurred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Try alternate static source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Mechanical, or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Sans Unicode"/>
              </a:rPr>
              <a:t>Break face of VSI</a:t>
            </a: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73" name="Text Placeholder 29" descr=""/>
          <p:cNvPicPr/>
          <p:nvPr/>
        </p:nvPicPr>
        <p:blipFill>
          <a:blip r:embed="rId2"/>
          <a:stretch/>
        </p:blipFill>
        <p:spPr>
          <a:xfrm>
            <a:off x="4678200" y="1481040"/>
            <a:ext cx="397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8:52:59Z</dcterms:created>
  <dc:creator>JMALONEY</dc:creator>
  <dc:description/>
  <dc:language>en-US</dc:language>
  <cp:lastModifiedBy>JMALONEY</cp:lastModifiedBy>
  <dcterms:modified xsi:type="dcterms:W3CDTF">2009-11-17T21:55:30Z</dcterms:modified>
  <cp:revision>15</cp:revision>
  <dc:subject/>
  <dc:title>Slide 1</dc:title>
</cp:coreProperties>
</file>